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F5A-8EDF-4503-84D1-335D9C23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AD2-1004-46B4-9636-B6D2C8EB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7B9-7730-4B92-845D-F8C1ADFF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81A-93BE-4F8B-B1AF-1A10BE64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843B-36DD-48B9-ACD5-B33F2641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38F1-7F16-4D86-944C-75344FC7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102D-0BBA-4E3C-AD4F-01A9C753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2F4B-4888-4327-BBF1-0E5BD139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C525-26E2-43E7-A764-44E91CBA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7EBD-D016-48FC-9612-96B95047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5F47-9D52-43D4-9325-C5C47A02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581-E92E-44D2-87E8-D1937721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F54A-8591-47A6-8B14-AC87379D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8576-0A9F-4B9F-B5D2-9C29FEB4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0C67-0730-415C-B388-7384A5BD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7E0A-8762-4F30-926B-08105B68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2591-049B-4D58-A623-FDDFA599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DD962-29E4-40F7-A1F0-510FB505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DAF0-CEC4-48FA-B65C-5CD29B80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A65D-9823-4BBF-A13F-8BDC19A9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E9BA-0314-4703-B621-5DDD2BD4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2DAD-A06E-44DB-852C-AB3CE08A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DE4-365C-4AE7-8EAF-0C0731A5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86CE-9320-465A-8529-A5788399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AC7F7-1ED5-4B1E-B83C-1FB647E1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2763F-A49A-44B6-9F3E-F72E278E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18F4B-7DC1-4982-9308-833DB533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A18AD-F362-4C70-BD33-1FF86A89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29695-21B1-41CA-80C3-6B1CB4D7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8FEC-DE6F-4181-A506-B1829B4E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A876D-6E4F-4E04-890A-37FAE461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BF0C6-B1E2-4DE3-B6DC-33CFBC7D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34A90-1F27-4112-B4DC-1500C9FD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790-5F34-4AF4-BA9E-DAC388BB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22AD6-0B79-4AD2-B5FA-9BF23ABC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B1D46-0C06-4AB1-87F4-65E78FF8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70A7D-7E86-4F48-ACBF-CEF27A55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890D0-82DB-41A8-B29A-05CC7783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48F0A-F6B2-45F3-85CD-1BA9E397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23A72-E2A4-4788-8169-0D4D15A7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86015-9AD1-4ACE-A890-7275BDA6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BD51B-1E2E-43F4-AD21-9179D828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9E1EA-5E79-4C6C-BB53-B7D35EB2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1D096-1659-46D9-8AFD-0577AF13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42C-4EE2-48BB-975A-D2220269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748B7-DEB3-4BB1-88AA-F774B1E7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EF557-782C-40A6-91C5-6F65B136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CDD57-8985-4B9E-AA57-FB963EF1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CCE64-28EC-4206-9FB4-0A94561D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A978B-EEC7-4716-B8B5-A938DAC1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766AF-D038-455A-A6BB-1A1020FD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0C99A-9253-4BE3-8C9D-2F763EB7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23776-B156-46AF-A1FC-3912E9B8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E1125-59AA-4715-BF0B-E7E85059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2E6EA-E5E0-45D9-AF29-D7B28713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0E4D-C337-49E5-BAAA-730F6618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9C4E7-1104-4C51-BA09-0A212C78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50EE9-6688-41B0-912C-670D1E37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5EFDB-4EB7-4F26-90EB-5B11AB42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17EBE-3614-44F2-BD56-D7490564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9BD32-5E65-47E7-AD5F-7C7CAA56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E00A8-7FD4-4013-9F31-2B5C8499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2D663-D1B2-4252-B2F9-07D3827F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A3C5E-C5AD-417C-BEF9-1E6F9168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DAD06-466B-4B5E-8222-3B635BA3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E8B5-2B5C-4D86-B505-ADA7633B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ECE-D290-4326-B88E-F8AF5409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9903E-6FBF-4BD9-9156-1E53EFD1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01CD8-6822-40FE-9C74-32A3B4B4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AA5D4-3537-45BC-811E-9E7DD118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938A6-3235-4759-BD5B-0CD9FB9B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73E36-F554-4520-A818-BB3A5575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075F0-D65B-4AA3-B23F-E629CDF0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28F86-D49A-4B4F-910C-88A17128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AD216-9723-4B54-8179-56E25E13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3313E-4643-4CFC-8A47-8D5812E0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21026-5D06-4D57-BB6B-25C6F975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12F-0CE4-4C68-A048-8B836817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2E425-D886-4E21-A5C4-9F536777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15377-255D-42A8-AEA6-0BB18432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D2D12-0405-4F66-B528-460D0E9C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6A2AF-239B-449F-A30A-3836DC2E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A94FB-B868-48DA-BFBF-50901FDA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E2A-EE6C-4ABA-829A-62BB38C5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D1FF-6679-4A0E-AF7B-D6A08111E1C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060F-4232-42E8-AE00-1FCFC3CF5FB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4E34-A87D-44B7-A6DB-3CB51D267EE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349B-35F1-47E9-B003-5ECA8E9AD6E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466A-D9C0-4E43-A9A0-A3B6634AEB8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20B3-1CD1-4E63-BE85-F972523C7E3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3BA7-388C-4BA8-BB93-4AD2CF9AF37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2920" y="3068280"/>
            <a:ext cx="4824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572314"/>
                </a:solidFill>
                <a:uFillTx/>
                <a:latin typeface="Corbel"/>
              </a:rPr>
              <a:t>Автор</a:t>
            </a: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: </a:t>
            </a:r>
            <a:br>
              <a:rPr sz="2200"/>
            </a:br>
            <a:r>
              <a:rPr b="0" i="1" lang="ru-RU" sz="2200" spc="-1" strike="noStrike">
                <a:solidFill>
                  <a:srgbClr val="572314"/>
                </a:solidFill>
                <a:latin typeface="Corbel"/>
              </a:rPr>
              <a:t>Кустова Анна Александровна</a:t>
            </a: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,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учитель литературы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Железногорск, МБОУ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Гимназия 91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им. М.В.Ломоносова 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Заголовок 1"/>
          <p:cNvSpPr/>
          <p:nvPr/>
        </p:nvSpPr>
        <p:spPr>
          <a:xfrm>
            <a:off x="1555920" y="557280"/>
            <a:ext cx="74991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едставление учебного проекта «Коты и кошки в литературе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C:\Users\про\Desktop\про кошек\kot_bajun.jpg"/>
          <p:cNvPicPr/>
          <p:nvPr/>
        </p:nvPicPr>
        <p:blipFill>
          <a:blip r:embed="rId1"/>
          <a:stretch/>
        </p:blipFill>
        <p:spPr>
          <a:xfrm>
            <a:off x="5162400" y="3657600"/>
            <a:ext cx="3822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34960" y="259920"/>
            <a:ext cx="7499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Регулятивные УУД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мостоятельно формулировать цели; совместно с учителем составлять план решения проблемы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ботая по плану, сверять свои действия с целью и, при необходимости, исправлять ошибки с помощью учител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3" descr="C:\Users\про\Desktop\котовасия\картинки2\cat021.gif"/>
          <p:cNvPicPr/>
          <p:nvPr/>
        </p:nvPicPr>
        <p:blipFill>
          <a:blip r:embed="rId1"/>
          <a:stretch/>
        </p:blipFill>
        <p:spPr>
          <a:xfrm>
            <a:off x="5148360" y="4095720"/>
            <a:ext cx="3600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434960" y="260280"/>
            <a:ext cx="7499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Познавательные УУД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риентироваться в своей системе знаний: самостоятельно предполагать, какая информация нужна для решения учебной задачи 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бирать необходимые для решения учебной задачи источники информации 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бывать новые знания: извлекать информацию, представленную в разных формах (текст, таблица, схема, иллюстрация и др.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434960" y="189000"/>
            <a:ext cx="749952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ерерабатывать полученную информацию: сравнивать и группировать факты и явления; определять причины явлений, событ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лать выводы на основе обобщения знан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образовывать информацию из одной формы в другую: составлять  цитатный план, составлять таблицу, схему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ботать с понятиями: жанр, пословица, поговорка, фразеологизм, примета, крылатое выражение, сказка, рассказ, герой, авторская позиц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меть интерпретировать текс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434960" y="404640"/>
            <a:ext cx="7499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Коммуникативные УУД: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оносить свою позицию до других: оформлять свои мысли в устной и письменной речи с учётом своих учебных и жизненных речевых ситуаций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ысказывать свою точку зрения и пытаться её обосновать, приводя аргумент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лушать других, пытаться принимать другую точку зрения, быть готовым изменить свою точку зрен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3" descr="C:\Users\про\Desktop\котовасия\картинки2\cat035.gif"/>
          <p:cNvPicPr/>
          <p:nvPr/>
        </p:nvPicPr>
        <p:blipFill>
          <a:blip r:embed="rId1"/>
          <a:stretch/>
        </p:blipFill>
        <p:spPr>
          <a:xfrm>
            <a:off x="6875640" y="4437000"/>
            <a:ext cx="19872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зультаты проект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альманаха – сборника творческих работ учащихся (История, рассказанная кошкой (котом), Памятник коту (кошки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каз о литературных котах и кошках учащимся начальной школ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6" descr="C:\Users\про\Desktop\котовасия\картинки2\cat019.gif"/>
          <p:cNvPicPr/>
          <p:nvPr/>
        </p:nvPicPr>
        <p:blipFill>
          <a:blip r:embed="rId1"/>
          <a:stretch/>
        </p:blipFill>
        <p:spPr>
          <a:xfrm>
            <a:off x="3492360" y="4724280"/>
            <a:ext cx="273708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итератур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836280"/>
            <a:ext cx="46497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40840" indent="-186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http://festival.1september.ru/articles/634984/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0840" indent="-186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http://catsrepublic.ru/kototek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0840" indent="-186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http://festival.1september.ru/articles/571440/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0840" indent="-186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http://festival.1september.ru/articles/567706/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0840" indent="-186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ловицы, поговорки о котах и кошках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ttp://mau.ru/read/word/russian.php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0840" indent="-18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4" descr="C:\Users\про\Desktop\про кошек\cat034.png"/>
          <p:cNvPicPr/>
          <p:nvPr/>
        </p:nvPicPr>
        <p:blipFill>
          <a:blip r:embed="rId1"/>
          <a:stretch/>
        </p:blipFill>
        <p:spPr>
          <a:xfrm>
            <a:off x="5724360" y="2421000"/>
            <a:ext cx="35895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Метод проектов даёт большие возможности для учителя и ученика!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особствует организации самостоятельной работы учащихс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особствует зарождению интереса к последующим делам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буждает детей добывать новые знания, использовать имеющийся опыт при решении конкретных проблем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зволяет школьникам почувствовать, насколько значимы приобретённые ими знания для жизн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34960" y="189000"/>
            <a:ext cx="749952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ккумулирует все знания, умения и навыки учащихс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ызывает большой личностный интерес у детей и выводит их на принципиально новую ступень познания и 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зволяет формировать исследовательские навыки учеников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зволяет формировать навыки групповой деятельност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зволяет формировать навыки самообразования и самоконтрол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Характеристика проект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116000" y="836280"/>
            <a:ext cx="7818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По характеру доминирующей деятельности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поисковый, творческ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По предметно-содержательной области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межпредметный (русский язык, информатика, биология, изо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По характеру контактов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среди одноклассников;</a:t>
            </a: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По количеству участников проект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индивидуальный, группово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По продолжительности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краткосрочный (11 часов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971640" y="188640"/>
            <a:ext cx="5976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ключение подростка в ситуацию осуществляется через  создание проблемной ситу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Достижение цели проект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уществляется через анализ произведений, создание презентаций, написания сочинения, создания иллюстрированного альбома историй от лица кота (кошки), памятников коту, кошк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C:\Users\про\Desktop\котовасия\картинки2\cat016.gif"/>
          <p:cNvPicPr/>
          <p:nvPr/>
        </p:nvPicPr>
        <p:blipFill>
          <a:blip r:embed="rId1"/>
          <a:stretch/>
        </p:blipFill>
        <p:spPr>
          <a:xfrm>
            <a:off x="6724800" y="4606920"/>
            <a:ext cx="2419200" cy="2251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Users\про\Desktop\котовасия\картинки2\cat017.gif"/>
          <p:cNvPicPr/>
          <p:nvPr/>
        </p:nvPicPr>
        <p:blipFill>
          <a:blip r:embed="rId2"/>
          <a:stretch/>
        </p:blipFill>
        <p:spPr>
          <a:xfrm>
            <a:off x="6989760" y="260280"/>
            <a:ext cx="1976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640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Основополагающий вопрос проекта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187280" y="980640"/>
            <a:ext cx="6840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2223"/>
                </a:solidFill>
                <a:latin typeface="Corbel"/>
              </a:rPr>
              <a:t>Почему коты и кошки становятся частыми героями произведени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Заголовок 1"/>
          <p:cNvSpPr/>
          <p:nvPr/>
        </p:nvSpPr>
        <p:spPr>
          <a:xfrm>
            <a:off x="1042920" y="242100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блемные вопросы проекта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одержимое 2"/>
          <p:cNvSpPr/>
          <p:nvPr/>
        </p:nvSpPr>
        <p:spPr>
          <a:xfrm>
            <a:off x="1619280" y="3645000"/>
            <a:ext cx="7211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ими качествами наделяются коты и кошки в произведе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ова художественная роль образа кота, кошки в произведе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C:\Users\про\Desktop\котовасия\картинки2\mouse063.gif"/>
          <p:cNvPicPr/>
          <p:nvPr/>
        </p:nvPicPr>
        <p:blipFill>
          <a:blip r:embed="rId1"/>
          <a:stretch/>
        </p:blipFill>
        <p:spPr>
          <a:xfrm>
            <a:off x="1042920" y="3645000"/>
            <a:ext cx="627120" cy="823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C:\Users\про\Desktop\котовасия\картинки2\mouse063.gif"/>
          <p:cNvPicPr/>
          <p:nvPr/>
        </p:nvPicPr>
        <p:blipFill>
          <a:blip r:embed="rId2"/>
          <a:stretch/>
        </p:blipFill>
        <p:spPr>
          <a:xfrm>
            <a:off x="1042920" y="5373720"/>
            <a:ext cx="6271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чебные темы проект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052280"/>
            <a:ext cx="58010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1.Образы котов и кошек в фольклоре (2 час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ословицы, поговорки, приметы, связанные с котами и кошкам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казки о котах и кошках («Кот, петух и лиса», «Кот и Лиса», «Поди туда – не знаю куда, принеси то – не знаю что»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2223"/>
                </a:solidFill>
                <a:latin typeface="Corbel"/>
              </a:rPr>
              <a:t>2.</a:t>
            </a: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Образы котов и кошек в литературных сказках (2 час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(Ш.Перро «Кот в сапогах», братья Гримм «Бременские музыканты»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2223"/>
                </a:solidFill>
                <a:latin typeface="Corbel"/>
              </a:rPr>
              <a:t>3</a:t>
            </a: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. Иллюстрации к произведениям о котах и кошках (1 час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редставление презентац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5" descr="C:\Users\про\Desktop\котовасия\картинки2\cat186.gif"/>
          <p:cNvPicPr/>
          <p:nvPr/>
        </p:nvPicPr>
        <p:blipFill>
          <a:blip r:embed="rId1"/>
          <a:stretch/>
        </p:blipFill>
        <p:spPr>
          <a:xfrm>
            <a:off x="6459480" y="1557360"/>
            <a:ext cx="2684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187280" y="189000"/>
            <a:ext cx="756144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2223"/>
                </a:solidFill>
                <a:latin typeface="Corbel"/>
              </a:rPr>
              <a:t>4. </a:t>
            </a: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Образ кота в рассказе К.Паустовского «Кот-ворюга» (2 час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казки про животных и рассказы о животных: сходства и отлич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чему Кот-ворюга стал Котом-милиционером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2223"/>
                </a:solidFill>
                <a:latin typeface="Corbel"/>
              </a:rPr>
              <a:t>5. </a:t>
            </a: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Мой любимец (Мультипликационные коты и кошки) (1 час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едставление презент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6. История, рассказанная кошкой (котом) (2 часа) – урок развития реч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7. Памятник коту (кошке)  (1 час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        </a:t>
            </a: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Всего:  11 час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2" descr="C:\Users\про\Desktop\котовасия\картинки2\cat020.gif"/>
          <p:cNvPicPr/>
          <p:nvPr/>
        </p:nvPicPr>
        <p:blipFill>
          <a:blip r:embed="rId1"/>
          <a:stretch/>
        </p:blipFill>
        <p:spPr>
          <a:xfrm>
            <a:off x="0" y="4178160"/>
            <a:ext cx="2340000" cy="2679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C:\Users\про\Desktop\котовасия\картинки2\cat022.gif"/>
          <p:cNvPicPr/>
          <p:nvPr/>
        </p:nvPicPr>
        <p:blipFill>
          <a:blip r:embed="rId2"/>
          <a:stretch/>
        </p:blipFill>
        <p:spPr>
          <a:xfrm>
            <a:off x="6405480" y="4076640"/>
            <a:ext cx="27385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71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Данный учебный проект способствует формированию и развитию УУД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Личностные УУД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: познавательный интерес к чтению, способность к самооценке на основе критериев успешности учебной деятельности; ориентация в системе моральных норм и ценностей, их присвоение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3:37:33Z</dcterms:created>
  <dc:creator>про</dc:creator>
  <dc:description/>
  <dc:language>en-US</dc:language>
  <cp:lastModifiedBy>pedagog</cp:lastModifiedBy>
  <dcterms:modified xsi:type="dcterms:W3CDTF">2014-05-22T07:31:18Z</dcterms:modified>
  <cp:revision>167</cp:revision>
  <dc:subject/>
  <dc:title>Диагностические аспекты предметной одарённости (русский язык, литература)</dc:title>
</cp:coreProperties>
</file>